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FF46A3-6ED6-4AE2-A493-22ED92D2E5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3F11F1-B40E-4AF7-A963-850FDFC1A2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FD4C89-481B-4636-83E8-753296B517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237022-48AF-45DA-B390-D3EA184F29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7EEBEE-EA33-408A-B38C-2707EB6E53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313D4C-17FA-4BB8-936B-8D4CCC008F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04CDB5-57A6-4F84-AD87-56ABC31543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9C8292-1AA6-4C06-9CA5-B07F5997CF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2CE79A-B1EB-44C5-8E4D-F282B31C8C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7AF9BF-B1BE-40AF-A861-79B33F0C35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8539-8593-43C6-A318-3E2B2F5E2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C334-0A07-4048-9D05-B51C8453B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37B1-4DD6-48F7-BA16-F7CCC3AC4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0B1C-FD67-475F-9E32-7FC966554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84A0B-236B-48CF-83C0-A20A60230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1A2C7-8B22-4798-9D03-38DE88B88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D95B3-DA43-4137-8687-15EB5500B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FF276-393F-4996-95AC-259A35A37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617D1-FBF3-4E79-A306-79D9DAE9A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3E84F-0525-439F-9AC1-856D10C2D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69C36-3D2F-4051-94B4-6321C64E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2BB5-8DCA-49AB-8E4F-ADB9437A0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DD49C-9563-4C20-A283-250E829C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3B8BE-CF31-46C5-AB1E-33DA34559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31781-97AB-4D64-BB44-970E40D5A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E0A92-74B8-4AEE-8A0B-4FE2ED87F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CE220-9F59-4F6D-A8A9-21359176F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DBA3-0D4B-4781-91A8-347044F77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5E0A-9A23-4E49-90B6-97C04D24B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38E1-6555-43A7-97EF-967C925A6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D47F-AE0E-4CBD-BC6A-4317A6E35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1060-CF1F-43E7-AE70-BEEE8150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0FE5-B71D-4D0D-92B5-9F61E039B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1C6E-9663-4B7A-BBC9-EDD08CB58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CA849F-99A0-4536-9814-6249980C8C43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655928-0A03-45DA-8186-7B124FC59E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7856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34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general rule(?), depends on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619280"/>
                <a:gridCol w="19746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general rule(?), depends on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CERN User</cp:lastModifiedBy>
  <dcterms:modified xsi:type="dcterms:W3CDTF">2015-12-09T09:00:47Z</dcterms:modified>
  <cp:revision>27</cp:revision>
  <dc:subject/>
  <dc:title>PowerPoint Presentation</dc:title>
</cp:coreProperties>
</file>