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424CDA-94CB-47CC-AC9C-E193068BD8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C4D8DB-3CE8-4339-B4DD-5B3014C4B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5CD841-170E-47EC-9DE8-FFB59D84DD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3608E6-837B-4FA6-B210-2D4B22D201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C40899-CBEB-4439-8CEA-3939E058FA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BCAAF7-6711-4B8F-A718-E38559EE2F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46ACFB-E633-46CC-B9CD-92BDC94B7F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F537B6-4C87-4635-B55D-209809EB86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91CA26-6AFC-485F-9A06-9F1CBE6167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C8DD08-17EE-4DF1-867C-C4C587659F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7C13-9DA4-4E41-BE8D-289FBFF87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0F3B-909D-4DD1-B85C-25F5F7412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D271-9A9D-4CA2-AD20-7A827B301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2730-8746-4BBA-B56F-F1FD4E801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574D9-629D-4BC8-A923-A1C5048C5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C5C36-5613-4323-9643-51D178B5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96233-1AF8-4A6E-B4C2-1FB17EE84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119F4-8947-454F-9B2B-A016010A2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29332-18B9-4609-A168-182F666B7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50443-E1B7-41FC-A47A-5C7F59DC1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E4F67-15E9-4634-901A-E10A6448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272F-BF62-4F95-997D-8091EC86E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23E8B-092E-4EEC-AD8A-C9D732EE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A1D87-1DA6-4D97-88C0-73254D2F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608DB-F6AE-4F13-82E2-8DA050F4F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3393A-E533-4A52-B26D-0E3A77587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61031-F4E1-4999-BB85-7184F2C5D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4FC3-E382-4AAE-8752-A19CC1B93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C31E-E909-4490-BD72-FCBCE9C03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B16C-B167-4B1A-B080-E37204036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BC8E-38AF-4903-9845-AF72EF3F0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0FE8-1818-40A9-93B5-0FE8C108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0225-3D5B-4FCE-BBE5-275804F6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1B83-D811-4B52-A6F6-C4C684AE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9BF0DA-1A94-42A6-8DF6-6C3584A8F445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6BEBC6-1996-4CB2-A815-5EE4FDDDB5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7856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34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619280"/>
                <a:gridCol w="19746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CERN User</cp:lastModifiedBy>
  <dcterms:modified xsi:type="dcterms:W3CDTF">2015-12-09T09:00:47Z</dcterms:modified>
  <cp:revision>27</cp:revision>
  <dc:subject/>
  <dc:title>PowerPoint Presentation</dc:title>
</cp:coreProperties>
</file>