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0443F0-5538-4ECC-9E3B-BE0E92742D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721284-4B6C-46C2-AA3F-0E2CDA7022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91F7FA-A0F6-46C8-A526-F56B3F8103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C2AB17-063F-4D73-8921-645D9266B2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ECF72F-9AD7-437E-80F9-570659E75B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CA17B5-569B-407B-8BA4-6B69E7F01B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C22AC4-AA00-45B7-8F0C-57055C253F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167372-2913-43FD-925C-B6365C5708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4F9292-E8E3-4C28-BA85-2EA815F95B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0FCEAB-5964-451A-A759-40C7860F91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6C0D-8698-4786-A4E2-7CB75B47C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55C9-AACE-4298-A70A-3D43D7C8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3814-94DC-4329-9A61-806EB68B3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D43D-6F03-4000-AAD3-D4A67733D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CB1F3-1E5D-4F7B-A1AB-9C96EE488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320D4-E87A-4DAD-BBD6-D20CD5E91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A04F6-BF38-46E5-B224-A77A23C8F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B0D67-7C24-456F-9344-A2709B239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8D081-FE3C-438D-BA25-FA3C5CC4A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F32F0-787A-4BD6-8B53-768341A05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C7BD8-85EF-4110-B44A-C97D9DF7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3439-EE57-42D8-A9D6-BD5F7F6EC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7E7F0-AE38-40C4-9267-F1371496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1B076-7DBA-46B1-8B78-B3076446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89494-DBB4-4DC4-B717-8331C3074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3D9E4-1334-4E8F-AEBF-82058B976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C6631-A539-41E2-887F-4D84DF65E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BE5A-EE3F-4C56-B2AD-8478AD6C1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678E-811A-4B54-9E07-613A71836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56E5-D7DC-4AB8-A498-4C75AB58E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811D-B721-4B77-B5F0-332FB6B7A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81E3-30FB-4DF4-A6E0-BA2BC683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D857-6204-4210-91CD-1EC827C4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D230-F7BC-40E2-9794-41476D52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EDDF83-7CC1-4A7A-928F-20C871914DD1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409F6C-7B0C-47C8-9466-DA378AABAF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7856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34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619280"/>
                <a:gridCol w="19746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CERN User</cp:lastModifiedBy>
  <dcterms:modified xsi:type="dcterms:W3CDTF">2015-12-09T09:00:47Z</dcterms:modified>
  <cp:revision>27</cp:revision>
  <dc:subject/>
  <dc:title>PowerPoint Presentation</dc:title>
</cp:coreProperties>
</file>