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21EBF-9BD8-4028-981A-728D47F74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6453CC-9349-4319-9299-81DCCF0DE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3A938-063D-450F-B4A3-68A8F3D5A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8AB69-DC62-47F0-A9E9-EA2FE73CA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B3AD9F-6989-4E51-A36B-3F81AE487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95B06-6A53-474F-8890-CCEBFD8FD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A05587-19D2-4859-BE70-10FE98EC3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92C07-8610-4B77-A406-D71E6C432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43933-94CE-4B6D-88C9-F80D3BB68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04C6F-44EB-4239-BC4D-306582321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6F53-8A8A-4005-BD93-C82BB1603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4DE1-1C12-4EE0-8999-C1FA252D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B224-E911-41F0-89B3-8550C2A29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BCEA-2C11-4D0D-B382-59FC50F68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A2A5-9D04-4758-A030-687EAD04B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BC1C-DC3C-4CA5-BF0B-38580D93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6A81-E7B2-4B06-BFF1-467FB2DC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CDFA-110B-498D-821D-D10BA457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05CB-6D7C-43E3-B6C3-8BAA8EC1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EFBF-E137-4A27-97F2-7E7CE7BC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B6E1-9E4D-47B5-B5E1-EB06B30C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F87D-CADF-4FBB-A35C-5C7CE3AD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82CB-0020-4ABF-840A-4D479079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AAE0-4D36-479C-8AC8-A761977B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189E-224A-457B-A890-ECF86927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7E35-390B-4A57-AE16-1A7843AFB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D425-F39B-4CE5-BF57-F055CFB63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028F-EE4C-4703-889F-1379F413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6D98-CF08-4301-9B62-B67BB142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93D9-51F5-47D1-806A-AF5D39D4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1ADB-9C00-4052-AAEE-4DA511E5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0447-64D0-4487-AFBB-B235636B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C6D9-D573-4B04-BB92-C2B0EE46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047E-B06F-4321-946E-FA4FEE98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F1554-9801-41E2-87D0-7B65AD45033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BC3FC-7708-4F39-BB24-1337B6B81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7856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34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619280"/>
                <a:gridCol w="19746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CERN User</cp:lastModifiedBy>
  <dcterms:modified xsi:type="dcterms:W3CDTF">2015-12-09T09:00:47Z</dcterms:modified>
  <cp:revision>27</cp:revision>
  <dc:subject/>
  <dc:title>PowerPoint Presentation</dc:title>
</cp:coreProperties>
</file>