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682BE-8D96-4423-884D-04DB481B2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2638E7-2562-4F9E-8BD5-BA309F34C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14A41E-D39E-44DF-B5E2-43FE23ED9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1C6AD7-46FE-487B-A3F9-BB3C8C52B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A737B-7C05-4640-BAE0-E016B1AA7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BB80E6-4E6F-4857-BD19-3CE5DF49A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3CFB56-973F-43B5-8824-D80D6ACDC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050E70-0C2B-4F64-927A-95CDF99A2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676F6E-28D5-42BD-9FB6-56A561098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B60BC-77C4-4945-BB4F-16D49E75A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1830-7269-4F1C-8F1B-83A17EFBB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2DBE-24A0-4E2F-ADE3-7BA41E22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B544-9032-45AB-A614-8AB45B82D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E93A-04FD-4A06-8BE9-4A5B8668D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235D-5E78-462D-B406-042FB86F4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BED9-CC6B-4EFE-B99A-0CAECBD7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FFD8-7108-48DF-B254-5D8F01D5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062F-C8AD-42C8-99F3-489EB939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70E6-215E-40EE-93E0-BFC7BFAC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D9F3-A511-42E6-9300-97809CB8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4B1C-DEDF-4343-8EEC-D0EA29EC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B3EA-CA16-49E3-8043-7A46250E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A5EC-E9FA-4C05-96AB-C2F159E9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D936-4C61-47BD-8B3B-1055BB09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8A42-0558-46DC-9515-BB79ED32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CEFB4-8C4E-4C2E-9370-021C73F41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BC80-898C-438D-BE7B-FA567636E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A9C6-2060-4CA1-BCAF-2915364A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0159-16D7-4E09-B6FD-308392FB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77FB-A229-4715-B04C-C6CD71E6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1B3C-E6A0-42A5-9CD1-D8A70615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8A2A-C737-4774-9E92-95A5E0E0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C1EA-3986-4376-8DF1-99D3086F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CB5A-68AC-448D-A513-E87E30F7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C97793-6287-4E35-A82E-76224C6B9FD6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81B9BE-17A4-4A2F-94F2-306CD5370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7856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34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619280"/>
                <a:gridCol w="19746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CERN User</cp:lastModifiedBy>
  <dcterms:modified xsi:type="dcterms:W3CDTF">2015-12-09T09:00:47Z</dcterms:modified>
  <cp:revision>27</cp:revision>
  <dc:subject/>
  <dc:title>PowerPoint Presentation</dc:title>
</cp:coreProperties>
</file>