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6A084-057B-42B4-847F-3AEF1D7B9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045F7-056C-4F84-9F19-E9E6BB356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D2C965-D029-4A00-A853-6DC7DFBEA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C644A-BE16-4975-9B5F-81971930A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1141A1-BF97-4E47-9C18-A1E2D5837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A54706-B62D-4B09-9A90-6743F8F70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E34934-E484-4B28-9F9F-8BF9E9AED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9C8BB-5F07-4FBB-AE61-9AE9B311F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DDADDE-8E0B-4429-B256-5EDC05E05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39F93D-2B16-4F58-9D10-54E0D78C4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59DF-5E0A-4474-9681-D82125C0C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DAF3-5B69-4BAB-97C4-65F06349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3A95-88A8-4009-8898-0E6075CC7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04FF-B3B4-4E16-B206-3365B32C4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3778-7BDA-4E91-85D8-CEC666811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CC04-B127-40A9-926B-3C00B9E1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253C4-F5A5-4448-A805-EBEAA0F5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D3B9-41F0-411D-BE3E-84608856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1B4A-84BC-4C09-9ED4-2561EA8C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3D28-A0C1-4B10-B48D-0B006822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81EC-9F4C-4B3C-A099-134C2618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D72E-602A-4E66-98A7-A1D7E33F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8351-7BF6-4A82-92F5-49FE56B5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DBDC-5FC1-4385-9B29-3399F8B1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ED13-7110-4998-94FD-4561F375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36E7-3EB4-4062-87A7-7F3D4DA57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14EB-69D5-4B96-92CD-9C0C061B1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7C00-3B57-40B6-8C8F-194D8366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2076-4EA5-44AD-B8B1-C074BE1A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AA3A-7E9A-4BDC-A428-8B547D71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5F03-D3E8-4E99-884D-BDD55A6B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3E0F-8063-42E0-91AD-DE2D7F11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5C73-658A-4EB2-9572-11986CB5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926B-A9FE-4CE2-BF43-B04B8741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BD7B86-B241-4A95-8399-7F862F7032BC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503082-7AFA-4466-B34F-4BE5D7B7C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7856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34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619280"/>
                <a:gridCol w="19746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CERN User</cp:lastModifiedBy>
  <dcterms:modified xsi:type="dcterms:W3CDTF">2015-12-09T09:00:47Z</dcterms:modified>
  <cp:revision>27</cp:revision>
  <dc:subject/>
  <dc:title>PowerPoint Presentation</dc:title>
</cp:coreProperties>
</file>