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2531D-86C8-41C5-9CBE-220B76928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689F5-73EA-4B35-BC56-0460E22079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43512-02AE-4278-B81E-84A197A63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8DE39-20B2-4E77-B0B0-2486BDB2F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9498F-3EB4-49AD-A93C-0B3A8965F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A87D2-6E2F-4940-9B88-C80FD07F8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BDAA6-171C-404C-B424-462238E121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35ACC-DD2A-491D-940C-1756A766B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51D7E-3EB8-4066-A1BC-142986A47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33940-5747-4F45-90FE-5251FC96C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DC5B-C17B-4C21-BD27-183AF14E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F6F7-0567-4D3A-B21F-1C87DB7A1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51E-C029-419A-86E9-82D53FD07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28B0-8628-48DE-95C8-79E7F0F20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952D-6023-41C9-8377-6C8F0707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2555-CDA3-494E-84BE-592FB1F7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DF97-E1E7-46E2-9F12-AB2DA61F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95FB-3C13-4E9E-AABC-5B013733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912E-FC9A-4148-BD36-BA30B30F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FF9C-8E50-4561-B0F8-3243E191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9198-9FAD-456E-8A1E-0C5F2B3A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1A12-E22E-473E-87D9-36AB3CBF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2F99-9E7C-47DE-9E93-FC70CE69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FEBA-C043-46AA-9076-87EAEB19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480C-7FB3-4EA9-94B5-B216F2E3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2387-007A-450E-BD7A-E15AC3C6F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96C7-B933-4DB1-A0B3-BD2A6945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9DEF-B563-4906-9D90-08B3CFC3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ED09-E98E-4EF9-9D1B-BD161106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0A18-880A-48B2-8626-7ED9DEFD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ADEC-B852-4F2E-B030-FCCB119D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49F2-B90E-43A1-9D0E-0EF5BCDE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DCEA-C985-410C-AD6E-68783DCF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3041-54AA-44C8-BF68-7A1042D9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1C751-840E-492B-A3BB-AC3EF181E547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C8C68-E4D0-4086-A164-1BD23E784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7856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34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619280"/>
                <a:gridCol w="19746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general rule(?), depends on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ative number or -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  <a:ea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CERN User</cp:lastModifiedBy>
  <dcterms:modified xsi:type="dcterms:W3CDTF">2015-12-09T09:00:47Z</dcterms:modified>
  <cp:revision>27</cp:revision>
  <dc:subject/>
  <dc:title>PowerPoint Presentation</dc:title>
</cp:coreProperties>
</file>