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55420-B30E-43F3-B731-FFAFA6686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8A88A7-FE29-4847-9920-22397445C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62E2A-FCE5-4A68-9B9B-F1598EE49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E68B9-5C4E-44FF-B2D0-71DC1D13F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88D8E-4227-46DB-8674-F07F71A11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C3964-C71B-49D4-87E9-ACEAD6C96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968FD-6BF1-4660-81B9-013DD1845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467A7-8C05-4B1C-BC51-85330AC56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74378-302A-4AD8-8089-55D906B1B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6CF7E-ED3B-4596-97B9-3690103E4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934C-CF9D-452D-A9B1-A37D51279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B88C-EFD0-4846-8EFC-B800D202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EDEF-25A0-4983-B654-AC6B6600E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7A46-A3E8-49F4-A4B7-923D318D2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7397-ADC4-4AA4-B1A1-0A08C27C2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AFE2-5929-42F7-B6E9-11A5EE51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9222F-392E-4833-B542-5992A4E1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6DDF-3136-4CC9-9DF0-EAFB90C1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7361-B373-4C19-95A6-E2793DFC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D63E-2C76-44B3-B589-A8629D4F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E011-333E-493C-B492-B8736EBE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0E53-97EC-4ED8-B648-D73DC1AA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D3E6-3873-4910-81E6-68F2E89F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D77B-7329-4F96-8756-5FD2FEEA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6264-1C57-4FBB-9BB6-7CA675C7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3F3C-5D26-4BF4-B951-0C9B392FA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F1D4-689F-47D8-9E63-D23EB0807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DAA8-EAF9-4F85-8845-FEDFA856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60FF-B667-4BCA-A787-98B8D316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3C6B-6B4E-47FD-8704-2AD8E1DE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6629-761E-49C7-A6AD-57A2BB15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40D7-97AA-465E-A9AE-02287606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7987-59ED-4A53-8849-20369ED6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DE64-BD10-448E-AA7E-83BB7222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FD1E6-9CEF-42BD-9375-8FD5CFB65207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77942-588C-43C6-9751-D08581078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7856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34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619280"/>
                <a:gridCol w="19746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CERN User</cp:lastModifiedBy>
  <dcterms:modified xsi:type="dcterms:W3CDTF">2015-12-09T09:00:47Z</dcterms:modified>
  <cp:revision>27</cp:revision>
  <dc:subject/>
  <dc:title>PowerPoint Presentation</dc:title>
</cp:coreProperties>
</file>