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91BE4E-491D-4486-97EB-1E58DC07C8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037DCF-0E2B-4787-A996-BBC0A69630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A87335-204E-4159-9A00-5D11B13970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390420-8F1D-4FA6-9417-BEBD97F09A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C3EE9B-6784-4641-8896-88D5B3CF5A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70A060-8E69-4A50-931D-D7771A5EED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5880C6-AB64-48A4-B92D-0EEED0CCB0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6740F5-DEE1-426C-B3AC-5824B19602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870ED2-0C3D-42F3-B9BA-74A5F72A4F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87E1A0-43FF-4A26-8982-7358833EED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DC77-331E-4108-8329-EEAC2971C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FE0F-BD5F-45B5-9EBC-73CCA164E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7357-F0BF-4E84-A3FD-D96F64CB1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7741-B4B3-4344-8139-7E405896C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51EAD-FAE9-47EE-A5F3-72318B250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33F41-321E-4518-8679-698F7006A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549A0-0656-4B1B-81AC-1FBB5A209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05540-1815-4E79-8B6A-F28260A18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404B2-B9A9-490C-91DB-267CB4231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A8253-D3C3-4CEB-8275-E84E7D2A6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E8782-5E32-4BAB-99DD-B22DA6F3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C49F-46E8-4D2E-B714-07D53DF4C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ACB5D-C88A-48A0-A531-C14F590F4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F49D4-C4BF-4E04-BB1D-BCBF77154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58FC7-F3B5-4D6A-9042-13C4C409C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B5950-0070-4E37-8CFD-5BD9CEF14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8F239-190A-4BCF-BA73-57BB85FBA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43D8-DB06-4A8C-8B94-96A0700DE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DDD0-45B6-49BE-A4AC-C83898FA6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300C-088B-4E17-A7A4-666F353D1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56DB-5A5D-454D-88BF-061B89061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F131-71D7-48F0-A28E-D78EECF8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08C2-BDAF-41E9-ADBE-99C8DA31F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E076-8C01-4A9A-B434-AB95D3E7D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DC0F4B-2C93-4FFC-9FAB-56E0270BFBA5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91316C-BAA3-4988-9182-7F6615023A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7856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34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general rule(?), depends on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619280"/>
                <a:gridCol w="19746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general rule(?), depends on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CERN User</cp:lastModifiedBy>
  <dcterms:modified xsi:type="dcterms:W3CDTF">2015-12-09T09:00:47Z</dcterms:modified>
  <cp:revision>27</cp:revision>
  <dc:subject/>
  <dc:title>PowerPoint Presentation</dc:title>
</cp:coreProperties>
</file>