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0D797C-F6C4-4B5B-AEB9-B97CE38EB2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A5E40A-A48C-4518-AE32-6D41D10CA5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85BC77-34DC-4359-987E-E85DB7BF5B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D5981F-F568-4515-AFC2-709333B7D7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0C50C6-011F-465D-91C4-FFAF18AF38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BE01C8-2155-4000-A915-128F77D40D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2893E5-FE4B-4DF4-9A54-481CA307EB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E97104-2138-41F6-8687-324997574D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674BDF-A83B-4FF0-BD98-780ADF7ADD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F239C5-FB05-48FA-96AF-ACF0218832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9BF7-D2D0-4610-97BD-C85FD44A5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6CE1-564E-46A9-B3AF-C5A83F39D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8311-56E0-4185-980D-64AC52B03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AAB3-1C4B-48FB-8A0D-4B37892C4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CDA64-B044-40A1-8F96-6DAA16AC1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5A0B6-BEF7-4735-A075-85D19538C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CB4F4-BB22-40FC-8DFC-383B4AA81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A5E18-FAFA-4B94-8B1A-C78D6EBCA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DBCD3-71BB-4A0A-B98D-33A6F72FA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29C6D-DF23-4B4F-A0E5-9CCA391DE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7196D-037A-46D3-90E2-055473ECF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FA75-6F85-4BC3-AD11-541135196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23033-4F3B-49A8-B689-0B2D1CD59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A533A-9642-4D67-A1D5-BF2C6C531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9DCB9-3FE6-4DFB-A74F-CD869F63D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B68F8-A88F-4CD1-AB05-1E6931503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60BDF-353C-4BF5-A729-77FC5680A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A322-1E97-43F5-A55B-1788FC807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9FC0-842F-4DF1-AE54-E4C10C797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90E6-0A9B-4C16-88AC-AAA657682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BD43-28F8-4C2D-A4D7-A882CFCB2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2BE8-6686-496B-B216-F7C9F1C2A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998D-CC9A-4B2C-A0A1-7E9DF92F4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21E2-7BDB-40CD-8C29-132A66F5E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002C34-8F82-4235-991D-AE4593E04191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A10CE9-BC28-4B4E-B386-D6EFD7A8E6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7856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34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general rule(?), depends on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619280"/>
                <a:gridCol w="19746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general rule(?), depends on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CERN User</cp:lastModifiedBy>
  <dcterms:modified xsi:type="dcterms:W3CDTF">2015-12-09T09:00:47Z</dcterms:modified>
  <cp:revision>27</cp:revision>
  <dc:subject/>
  <dc:title>PowerPoint Presentation</dc:title>
</cp:coreProperties>
</file>